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9:14:15.971000000" idx="1">
    <p:pos x="5480" y="79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A79D-3E36-44B5-B89D-3D7FE22044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C49-2B99-4630-ABF9-EFCC680EB9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544920" y="3778200"/>
            <a:ext cx="4483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21080" y="2465280"/>
            <a:ext cx="45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黑体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步混合运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含小括号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1"/>
          <p:cNvSpPr/>
          <p:nvPr/>
        </p:nvSpPr>
        <p:spPr>
          <a:xfrm>
            <a:off x="1255680" y="285264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两种载重的车各自运的货物加在一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这批货物的总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把每种车各一辆看成一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出五组运货的总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这批货物的总质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908000" y="2655720"/>
            <a:ext cx="562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5×12+5.5×5×12=54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.5+5.5)×5×12=54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批货物一共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258920" y="2625840"/>
            <a:ext cx="68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工程队原计划完成一项修路任务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每天比原计划多修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完成了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每天修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1"/>
          <p:cNvSpPr/>
          <p:nvPr/>
        </p:nvSpPr>
        <p:spPr>
          <a:xfrm>
            <a:off x="1133640" y="2852640"/>
            <a:ext cx="6984720" cy="18003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每天多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就要比计划多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9=31.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际只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就能完成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提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完成了任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修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原计划每天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.5÷5=6.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504800" y="299736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×9÷(14-9)=6.3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每天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1" name="矩形 10"/>
          <p:cNvSpPr/>
          <p:nvPr/>
        </p:nvSpPr>
        <p:spPr>
          <a:xfrm>
            <a:off x="1550880" y="17604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新丰农机厂某工人要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零件。原计划每天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改为每天比原计划多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这样比原计划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2"/>
          <p:cNvSpPr/>
          <p:nvPr/>
        </p:nvSpPr>
        <p:spPr>
          <a:xfrm>
            <a:off x="2540160" y="3768840"/>
            <a:ext cx="414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0÷40-480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73" name="矩形 19"/>
          <p:cNvSpPr/>
          <p:nvPr/>
        </p:nvSpPr>
        <p:spPr>
          <a:xfrm>
            <a:off x="1028880" y="270828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现在每天比原计划多加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的含义。求现在比原计划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求出现在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计划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628560" y="4734000"/>
            <a:ext cx="1844640" cy="1431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0"/>
          <p:cNvSpPr/>
          <p:nvPr/>
        </p:nvSpPr>
        <p:spPr>
          <a:xfrm rot="18297600">
            <a:off x="5881680" y="2508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171880" y="4137120"/>
            <a:ext cx="44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80÷80-480÷(40+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(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1835280" y="182232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0÷40-480÷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2-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样比原计划少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0"/>
          <p:cNvSpPr/>
          <p:nvPr/>
        </p:nvSpPr>
        <p:spPr>
          <a:xfrm>
            <a:off x="938160" y="1596960"/>
            <a:ext cx="72946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5.6×(26.18÷3.4)×1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8.6-6.2)÷3.1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838160" y="2766960"/>
            <a:ext cx="3454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.6×7.7×1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60.3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838160" y="4365720"/>
            <a:ext cx="3597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12.4÷3.1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×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0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20880" y="182736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学校买了足球、排球各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个足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个排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买足球比买排球多用多少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7"/>
          <p:cNvSpPr/>
          <p:nvPr/>
        </p:nvSpPr>
        <p:spPr>
          <a:xfrm>
            <a:off x="3733920" y="5027760"/>
            <a:ext cx="3747960" cy="93636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时，一定要加小括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24000" y="2965320"/>
            <a:ext cx="4044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15-7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×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3×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1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运用带小括号的三步混合运算解决稍复杂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带小括号的三步混合运算的运算顺序和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的过程中，能进行有条理的思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0"/>
          <p:cNvSpPr/>
          <p:nvPr/>
        </p:nvSpPr>
        <p:spPr>
          <a:xfrm>
            <a:off x="874800" y="1504800"/>
            <a:ext cx="73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张一家四口和小王一家三口一起去旅游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旅游总费用是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两家决定按人数分摊旅游费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张家应付多少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3708360" y="4959360"/>
            <a:ext cx="5072040" cy="1798560"/>
            <a:chOff x="3708360" y="4959360"/>
            <a:chExt cx="5072040" cy="1798560"/>
          </a:xfrm>
        </p:grpSpPr>
        <p:pic>
          <p:nvPicPr>
            <p:cNvPr id="200" name="Picture 36" descr="男孩1"/>
            <p:cNvPicPr/>
            <p:nvPr/>
          </p:nvPicPr>
          <p:blipFill>
            <a:blip r:embed="rId1"/>
            <a:stretch/>
          </p:blipFill>
          <p:spPr>
            <a:xfrm>
              <a:off x="7164360" y="495936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AutoShape 27"/>
            <p:cNvSpPr/>
            <p:nvPr/>
          </p:nvSpPr>
          <p:spPr>
            <a:xfrm>
              <a:off x="3708360" y="5176800"/>
              <a:ext cx="2991600" cy="69768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两家一共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口人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Text Box 60"/>
          <p:cNvSpPr/>
          <p:nvPr/>
        </p:nvSpPr>
        <p:spPr>
          <a:xfrm>
            <a:off x="1692360" y="3141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张家：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28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+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4=41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1692360" y="3933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王家：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28÷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+3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×3=312</a:t>
            </a:r>
            <a:r>
              <a:rPr b="0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3"/>
          <p:cNvSpPr/>
          <p:nvPr/>
        </p:nvSpPr>
        <p:spPr>
          <a:xfrm>
            <a:off x="1068480" y="1557360"/>
            <a:ext cx="69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种感冒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0.2mg×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每日两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mg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盒能吃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4" descr="男孩1"/>
          <p:cNvPicPr/>
          <p:nvPr/>
        </p:nvPicPr>
        <p:blipFill>
          <a:blip r:embed="rId1"/>
          <a:stretch/>
        </p:blipFill>
        <p:spPr>
          <a:xfrm>
            <a:off x="7093080" y="452268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7"/>
          <p:cNvSpPr/>
          <p:nvPr/>
        </p:nvSpPr>
        <p:spPr>
          <a:xfrm>
            <a:off x="3419640" y="4530600"/>
            <a:ext cx="3495600" cy="6987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一天吃几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763640" y="3284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2×3)÷(0.6÷0.2×2)=6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买一盒能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927000" y="1557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修一条水渠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原计划每天修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3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实际每天比原计划多修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0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。修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后还剩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没有修。这条水渠有多长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263760" y="3348000"/>
            <a:ext cx="51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0.35+0.08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1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0.43×1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.45+0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.9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1"/>
          <p:cNvGrpSpPr/>
          <p:nvPr/>
        </p:nvGrpSpPr>
        <p:grpSpPr>
          <a:xfrm>
            <a:off x="320760" y="3933720"/>
            <a:ext cx="2938320" cy="2627280"/>
            <a:chOff x="320760" y="3933720"/>
            <a:chExt cx="2938320" cy="2627280"/>
          </a:xfrm>
        </p:grpSpPr>
        <p:pic>
          <p:nvPicPr>
            <p:cNvPr id="216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320760" y="4761360"/>
              <a:ext cx="119520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AutoShape 27"/>
            <p:cNvSpPr/>
            <p:nvPr/>
          </p:nvSpPr>
          <p:spPr>
            <a:xfrm>
              <a:off x="927360" y="3933720"/>
              <a:ext cx="2331720" cy="936000"/>
            </a:xfrm>
            <a:prstGeom prst="wedgeRoundRectCallout">
              <a:avLst>
                <a:gd name="adj1" fmla="val -39324"/>
                <a:gd name="adj2" fmla="val 7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实际一天修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AutoShape 27"/>
          <p:cNvSpPr/>
          <p:nvPr/>
        </p:nvSpPr>
        <p:spPr>
          <a:xfrm>
            <a:off x="5940360" y="1603440"/>
            <a:ext cx="2952720" cy="103356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有小括号要先算小括号里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矩形 21"/>
          <p:cNvSpPr/>
          <p:nvPr/>
        </p:nvSpPr>
        <p:spPr>
          <a:xfrm>
            <a:off x="615960" y="3860640"/>
            <a:ext cx="7891560" cy="52056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实际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明确先求什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求什么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求什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622440" y="5157720"/>
            <a:ext cx="7891200" cy="52056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四则混合运算解决实际问题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适当运用小括号来解决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333440" y="277956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×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533600" y="488952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424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333440" y="3770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÷3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600880" y="4889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+78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267160" y="3686040"/>
            <a:ext cx="27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30÷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1866960" y="3343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6095880" y="3262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533600" y="440532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324480" y="4338720"/>
            <a:ext cx="1379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2476440" y="547380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286680" y="5473800"/>
            <a:ext cx="1233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买来一本《童话故事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划每天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看完。照丫丫第一天看的页数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完这本书比计划要少用几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组合 3"/>
          <p:cNvGrpSpPr/>
          <p:nvPr/>
        </p:nvGrpSpPr>
        <p:grpSpPr>
          <a:xfrm>
            <a:off x="5508720" y="4834080"/>
            <a:ext cx="3649680" cy="1798560"/>
            <a:chOff x="5508720" y="4834080"/>
            <a:chExt cx="3649680" cy="1798560"/>
          </a:xfrm>
        </p:grpSpPr>
        <p:pic>
          <p:nvPicPr>
            <p:cNvPr id="77" name="Picture 33" descr="男孩1"/>
            <p:cNvPicPr/>
            <p:nvPr/>
          </p:nvPicPr>
          <p:blipFill>
            <a:blip r:embed="rId1"/>
            <a:stretch/>
          </p:blipFill>
          <p:spPr>
            <a:xfrm>
              <a:off x="7542360" y="4834080"/>
              <a:ext cx="16160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27"/>
            <p:cNvSpPr/>
            <p:nvPr/>
          </p:nvSpPr>
          <p:spPr>
            <a:xfrm>
              <a:off x="5508720" y="5097600"/>
              <a:ext cx="2033640" cy="63576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周是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天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组合 2"/>
          <p:cNvGrpSpPr/>
          <p:nvPr/>
        </p:nvGrpSpPr>
        <p:grpSpPr>
          <a:xfrm>
            <a:off x="363600" y="4795920"/>
            <a:ext cx="4194000" cy="1800000"/>
            <a:chOff x="363600" y="4795920"/>
            <a:chExt cx="4194000" cy="1800000"/>
          </a:xfrm>
        </p:grpSpPr>
        <p:pic>
          <p:nvPicPr>
            <p:cNvPr id="80" name="Picture 72" descr="女孩2"/>
            <p:cNvPicPr/>
            <p:nvPr/>
          </p:nvPicPr>
          <p:blipFill>
            <a:blip r:embed="rId2"/>
            <a:stretch/>
          </p:blipFill>
          <p:spPr>
            <a:xfrm>
              <a:off x="363600" y="479592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AutoShape 27"/>
            <p:cNvSpPr/>
            <p:nvPr/>
          </p:nvSpPr>
          <p:spPr>
            <a:xfrm>
              <a:off x="1877400" y="5085360"/>
              <a:ext cx="268020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知道了哪些数学信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组合 1"/>
          <p:cNvGrpSpPr/>
          <p:nvPr/>
        </p:nvGrpSpPr>
        <p:grpSpPr>
          <a:xfrm>
            <a:off x="2771640" y="2932200"/>
            <a:ext cx="5023080" cy="2104920"/>
            <a:chOff x="2771640" y="2932200"/>
            <a:chExt cx="5023080" cy="2104920"/>
          </a:xfrm>
        </p:grpSpPr>
        <p:pic>
          <p:nvPicPr>
            <p:cNvPr id="83" name="Picture 3" descr=""/>
            <p:cNvPicPr/>
            <p:nvPr/>
          </p:nvPicPr>
          <p:blipFill>
            <a:blip r:embed="rId3"/>
            <a:stretch/>
          </p:blipFill>
          <p:spPr>
            <a:xfrm>
              <a:off x="2771640" y="3035880"/>
              <a:ext cx="1828800" cy="200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AutoShape 27"/>
            <p:cNvSpPr/>
            <p:nvPr/>
          </p:nvSpPr>
          <p:spPr>
            <a:xfrm>
              <a:off x="5004000" y="2932200"/>
              <a:ext cx="2790720" cy="1288800"/>
            </a:xfrm>
            <a:prstGeom prst="wedgeRoundRectCallout">
              <a:avLst>
                <a:gd name="adj1" fmla="val -76898"/>
                <a:gd name="adj2" fmla="val 10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丫丫太喜欢书中的故事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第一天就看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页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"/>
          <p:cNvGrpSpPr/>
          <p:nvPr/>
        </p:nvGrpSpPr>
        <p:grpSpPr>
          <a:xfrm>
            <a:off x="299880" y="1616040"/>
            <a:ext cx="4395960" cy="1800360"/>
            <a:chOff x="299880" y="1616040"/>
            <a:chExt cx="4395960" cy="1800360"/>
          </a:xfrm>
        </p:grpSpPr>
        <p:pic>
          <p:nvPicPr>
            <p:cNvPr id="88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299880" y="1616040"/>
              <a:ext cx="1431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AutoShape 27"/>
            <p:cNvSpPr/>
            <p:nvPr/>
          </p:nvSpPr>
          <p:spPr>
            <a:xfrm>
              <a:off x="1731600" y="1649520"/>
              <a:ext cx="2964240" cy="93528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这本书的总页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Text Box 18"/>
          <p:cNvSpPr/>
          <p:nvPr/>
        </p:nvSpPr>
        <p:spPr>
          <a:xfrm>
            <a:off x="5189400" y="3213000"/>
            <a:ext cx="27925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-20×14÷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-280÷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"/>
          <p:cNvGrpSpPr/>
          <p:nvPr/>
        </p:nvGrpSpPr>
        <p:grpSpPr>
          <a:xfrm>
            <a:off x="5189400" y="1989000"/>
            <a:ext cx="4094280" cy="1798920"/>
            <a:chOff x="5189400" y="1989000"/>
            <a:chExt cx="4094280" cy="1798920"/>
          </a:xfrm>
        </p:grpSpPr>
        <p:pic>
          <p:nvPicPr>
            <p:cNvPr id="92" name="Picture 33" descr="男孩1"/>
            <p:cNvPicPr/>
            <p:nvPr/>
          </p:nvPicPr>
          <p:blipFill>
            <a:blip r:embed="rId2"/>
            <a:stretch/>
          </p:blipFill>
          <p:spPr>
            <a:xfrm>
              <a:off x="7668000" y="1989000"/>
              <a:ext cx="161568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27"/>
            <p:cNvSpPr/>
            <p:nvPr/>
          </p:nvSpPr>
          <p:spPr>
            <a:xfrm>
              <a:off x="5189400" y="1989000"/>
              <a:ext cx="2268720" cy="610560"/>
            </a:xfrm>
            <a:prstGeom prst="wedgeRoundRectCallout">
              <a:avLst>
                <a:gd name="adj1" fmla="val 61347"/>
                <a:gd name="adj2" fmla="val 17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列成综合算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 Box 18"/>
          <p:cNvSpPr/>
          <p:nvPr/>
        </p:nvSpPr>
        <p:spPr>
          <a:xfrm>
            <a:off x="1814400" y="337500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×14=280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页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80÷28=10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4-10=4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2268360" y="527688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完这本书比计划要少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工给图书馆做一批书架。计划每天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做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71560" y="2424240"/>
            <a:ext cx="5770800" cy="242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男孩1"/>
          <p:cNvPicPr/>
          <p:nvPr/>
        </p:nvPicPr>
        <p:blipFill>
          <a:blip r:embed="rId2"/>
          <a:stretch/>
        </p:blipFill>
        <p:spPr>
          <a:xfrm>
            <a:off x="7542360" y="483408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7"/>
          <p:cNvSpPr/>
          <p:nvPr/>
        </p:nvSpPr>
        <p:spPr>
          <a:xfrm>
            <a:off x="5364000" y="5097600"/>
            <a:ext cx="2178360" cy="92376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天做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+4=1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2" descr="女孩2"/>
          <p:cNvPicPr/>
          <p:nvPr/>
        </p:nvPicPr>
        <p:blipFill>
          <a:blip r:embed="rId3"/>
          <a:stretch/>
        </p:blipFill>
        <p:spPr>
          <a:xfrm>
            <a:off x="363600" y="4807080"/>
            <a:ext cx="1431720" cy="1800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7"/>
          <p:cNvSpPr/>
          <p:nvPr/>
        </p:nvSpPr>
        <p:spPr>
          <a:xfrm>
            <a:off x="1876320" y="4948200"/>
            <a:ext cx="26812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2" descr="女孩2"/>
          <p:cNvPicPr/>
          <p:nvPr/>
        </p:nvPicPr>
        <p:blipFill>
          <a:blip r:embed="rId1"/>
          <a:stretch/>
        </p:blipFill>
        <p:spPr>
          <a:xfrm>
            <a:off x="299880" y="161604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7"/>
          <p:cNvSpPr/>
          <p:nvPr/>
        </p:nvSpPr>
        <p:spPr>
          <a:xfrm>
            <a:off x="1731960" y="164952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出总共要做多少个书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076720" y="3227400"/>
            <a:ext cx="2791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×20÷(12+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240÷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5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3" descr="男孩1"/>
          <p:cNvPicPr/>
          <p:nvPr/>
        </p:nvPicPr>
        <p:blipFill>
          <a:blip r:embed="rId2"/>
          <a:stretch/>
        </p:blipFill>
        <p:spPr>
          <a:xfrm>
            <a:off x="7667640" y="1989000"/>
            <a:ext cx="1616040" cy="17989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7"/>
          <p:cNvSpPr/>
          <p:nvPr/>
        </p:nvSpPr>
        <p:spPr>
          <a:xfrm>
            <a:off x="5189400" y="1989000"/>
            <a:ext cx="2268720" cy="60984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成综合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814400" y="337500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×20=240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+4=16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240÷16=15(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300480" y="5157720"/>
            <a:ext cx="27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:15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天能做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1200240" y="3984480"/>
            <a:ext cx="716904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三步混合运算的运算顺序：混合运算中，先算乘除法，后算加减法，有小括号的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3"/>
          <p:cNvGrpSpPr/>
          <p:nvPr/>
        </p:nvGrpSpPr>
        <p:grpSpPr>
          <a:xfrm>
            <a:off x="1187280" y="1687680"/>
            <a:ext cx="4964400" cy="1800000"/>
            <a:chOff x="1187280" y="1687680"/>
            <a:chExt cx="4964400" cy="1800000"/>
          </a:xfrm>
        </p:grpSpPr>
        <p:pic>
          <p:nvPicPr>
            <p:cNvPr id="118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1187280" y="168768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AutoShape 27"/>
            <p:cNvSpPr/>
            <p:nvPr/>
          </p:nvSpPr>
          <p:spPr>
            <a:xfrm>
              <a:off x="2903400" y="1935720"/>
              <a:ext cx="324828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步四则混合运算的顺序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187280" y="2649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批货物用载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货车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辆车各运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恰好运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批货物一共有多少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4:27Z</dcterms:modified>
  <cp:revision>285</cp:revision>
  <dc:subject>www.xkb1.com</dc:subject>
  <dc:title>www.xkb1.com</dc:title>
</cp:coreProperties>
</file>